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6.jpeg" ContentType="image/jpeg"/>
  <Override PartName="/ppt/media/image25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45.wmf" ContentType="image/x-wmf"/>
  <Override PartName="/ppt/media/image3.png" ContentType="image/pn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39.jpeg" ContentType="image/jpeg"/>
  <Override PartName="/ppt/media/image41.wmf" ContentType="image/x-wmf"/>
  <Override PartName="/ppt/media/image37.jpeg" ContentType="image/jpeg"/>
  <Override PartName="/ppt/media/image32.jpeg" ContentType="image/jpeg"/>
  <Override PartName="/ppt/media/image38.jpeg" ContentType="image/jpeg"/>
  <Override PartName="/ppt/media/image43.wmf" ContentType="image/x-wmf"/>
  <Override PartName="/ppt/media/image40.jpeg" ContentType="image/jpeg"/>
  <Override PartName="/ppt/media/image13.jpeg" ContentType="image/jpeg"/>
  <Override PartName="/ppt/media/image44.wmf" ContentType="image/x-wmf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42.wmf" ContentType="image/x-wmf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847692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560" y="2601000"/>
            <a:ext cx="847692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6320" y="16128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2560" y="26010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6320" y="26010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272916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520" y="1612800"/>
            <a:ext cx="272916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4480" y="1612800"/>
            <a:ext cx="272916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2560" y="2601000"/>
            <a:ext cx="272916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520" y="2601000"/>
            <a:ext cx="272916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4480" y="2601000"/>
            <a:ext cx="272916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2560" y="1612800"/>
            <a:ext cx="847692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847692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413640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320" y="1612800"/>
            <a:ext cx="413640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920" y="279360"/>
            <a:ext cx="831816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6320" y="1612800"/>
            <a:ext cx="413640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560" y="26010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2560" y="1612800"/>
            <a:ext cx="847692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413640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320" y="16128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56320" y="26010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320" y="16128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2560" y="2601000"/>
            <a:ext cx="847692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847692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2560" y="2601000"/>
            <a:ext cx="847692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6128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2560" y="26010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56320" y="26010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272916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8520" y="1612800"/>
            <a:ext cx="272916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44480" y="1612800"/>
            <a:ext cx="272916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2560" y="2601000"/>
            <a:ext cx="272916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8520" y="2601000"/>
            <a:ext cx="272916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44480" y="2601000"/>
            <a:ext cx="272916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847692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413640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612800"/>
            <a:ext cx="413640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920" y="279360"/>
            <a:ext cx="831816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320" y="1612800"/>
            <a:ext cx="413640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2560" y="26010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413640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6128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6320" y="26010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2560" y="16128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612800"/>
            <a:ext cx="413640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2560" y="2601000"/>
            <a:ext cx="8476920" cy="9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benq.com.tw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1864800" y="6453000"/>
            <a:ext cx="72327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ctr" pos="2697120"/>
                <a:tab algn="l" pos="3495600"/>
                <a:tab algn="r" pos="686736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ctr" pos="2697120"/>
                <a:tab algn="l" pos="3495600"/>
                <a:tab algn="r" pos="6867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© Siemens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fld id="{C6F028B7-7148-487C-A888-D728684B41D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12560" y="1612800"/>
            <a:ext cx="8476920" cy="18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7480" indent="-176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5320" indent="-176040">
              <a:spcBef>
                <a:spcPts val="524"/>
              </a:spcBef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532800" indent="-17604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710280" indent="-176040"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710280" indent="-176040"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710280" indent="-176040"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>
            <a:hlinkClick r:id="rId3"/>
          </p:cNvPr>
          <p:cNvPicPr/>
          <p:nvPr/>
        </p:nvPicPr>
        <p:blipFill>
          <a:blip r:embed="rId4"/>
          <a:srcRect l="0" t="0" r="23929" b="10186"/>
          <a:stretch/>
        </p:blipFill>
        <p:spPr>
          <a:xfrm>
            <a:off x="7596360" y="403200"/>
            <a:ext cx="115092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524"/>
              </a:spcBef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4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4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hyperlink" Target="http://mobile.softpedia.com/phonePictures/1180" TargetMode="External"/><Relationship Id="rId12" Type="http://schemas.openxmlformats.org/officeDocument/2006/relationships/image" Target="../media/image13.jpe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17.jpeg"/><Relationship Id="rId7" Type="http://schemas.openxmlformats.org/officeDocument/2006/relationships/image" Target="../media/image29.jpeg"/><Relationship Id="rId8" Type="http://schemas.openxmlformats.org/officeDocument/2006/relationships/image" Target="../media/image1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18.jpeg"/><Relationship Id="rId15" Type="http://schemas.openxmlformats.org/officeDocument/2006/relationships/image" Target="../media/image16.jpeg"/><Relationship Id="rId16" Type="http://schemas.openxmlformats.org/officeDocument/2006/relationships/image" Target="../media/image35.jpeg"/><Relationship Id="rId17" Type="http://schemas.openxmlformats.org/officeDocument/2006/relationships/image" Target="../media/image20.jpeg"/><Relationship Id="rId18" Type="http://schemas.openxmlformats.org/officeDocument/2006/relationships/image" Target="../media/image21.jpeg"/><Relationship Id="rId19" Type="http://schemas.openxmlformats.org/officeDocument/2006/relationships/image" Target="../media/image22.jpeg"/><Relationship Id="rId20" Type="http://schemas.openxmlformats.org/officeDocument/2006/relationships/image" Target="../media/image36.jpeg"/><Relationship Id="rId21" Type="http://schemas.openxmlformats.org/officeDocument/2006/relationships/image" Target="../media/image37.jpeg"/><Relationship Id="rId22" Type="http://schemas.openxmlformats.org/officeDocument/2006/relationships/image" Target="../media/image38.jpeg"/><Relationship Id="rId23" Type="http://schemas.openxmlformats.org/officeDocument/2006/relationships/image" Target="../media/image17.jpeg"/><Relationship Id="rId24" Type="http://schemas.openxmlformats.org/officeDocument/2006/relationships/image" Target="../media/image18.jpeg"/><Relationship Id="rId25" Type="http://schemas.openxmlformats.org/officeDocument/2006/relationships/image" Target="../media/image39.jpeg"/><Relationship Id="rId26" Type="http://schemas.openxmlformats.org/officeDocument/2006/relationships/image" Target="../media/image40.jpeg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BenQ Product Portfoli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m MD PLM Portfolio Management, June10, 200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ased-out produ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1371600"/>
            <a:ext cx="81360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ther Products Including CD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632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BenQ Portfolio Summary (as of Jun 10, 200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550360" cy="51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79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Streng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1760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As a key LCD and consumer electronics manufacturer, BenQ is able to integrate TFT 260K LCD, MP3 player and 1.3 Mpix as the typical combination for most of BenQ mid tier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1760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Product with highest camera solution 2.0 Mpix will come s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1760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High end products are presented by 3 Smart phones with Symbian and Microsoft PPC PE 2003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1760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Fun morphing digital picture software in a few phones as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eak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1760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Lack of innovative form factor, clamshell is the dominant form factor in the portfolio with several bars and only one sl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1760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Only one 3G product (S80) in the 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1760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Mainstream designs except Qube Z2, clear BenQ brand image and unique design language can hardly be found on variou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Capabi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1760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BenQ has launched 8 GSM phones in 2004 and 12 products have been launched/announced in 2005. Average 3 new products per quarter in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1760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Products launched in 2004 and 2005 are all tri-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1760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CDMA phones can also be f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17604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Numerous mid and high tier products in 2005 has shown a clear transition from low to mid/high tier on the road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Products Overview of Ben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63760"/>
          <a:ext cx="8424720" cy="4052880"/>
        </p:xfrm>
        <a:graphic>
          <a:graphicData uri="http://schemas.openxmlformats.org/drawingml/2006/table">
            <a:tbl>
              <a:tblPr/>
              <a:tblGrid>
                <a:gridCol w="5832360"/>
                <a:gridCol w="2592360"/>
              </a:tblGrid>
              <a:tr h="752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aunch ti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 to be launch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 launched in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 products launched in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hased-out produ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product including CD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1268280"/>
            <a:ext cx="863640" cy="511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c2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1125360"/>
            <a:ext cx="7993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052640"/>
            <a:ext cx="8785080" cy="280800"/>
          </a:xfrm>
          <a:prstGeom prst="rect">
            <a:avLst/>
          </a:prstGeom>
          <a:gradFill rotWithShape="0">
            <a:gsLst>
              <a:gs pos="0">
                <a:srgbClr val="afc2c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116000" y="1341000"/>
            <a:ext cx="0" cy="5040360"/>
          </a:xfrm>
          <a:prstGeom prst="line">
            <a:avLst/>
          </a:prstGeom>
          <a:ln w="6480">
            <a:solidFill>
              <a:srgbClr val="00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1280" y="1460520"/>
            <a:ext cx="64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Sm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8000" y="2540160"/>
            <a:ext cx="57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6680" y="452592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89000"/>
            <a:ext cx="885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r" pos="7045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enQ Roadmap GSM +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BenQ U700&#10;MORE PICTURES"/>
          <p:cNvPicPr/>
          <p:nvPr/>
        </p:nvPicPr>
        <p:blipFill>
          <a:blip r:embed="rId1"/>
          <a:stretch/>
        </p:blipFill>
        <p:spPr>
          <a:xfrm rot="905400">
            <a:off x="6877080" y="2491920"/>
            <a:ext cx="663480" cy="876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BenQ Z2&#10;MORE PICTURES"/>
          <p:cNvPicPr/>
          <p:nvPr/>
        </p:nvPicPr>
        <p:blipFill>
          <a:blip r:embed="rId2"/>
          <a:srcRect l="0" t="2999" r="0" b="15756"/>
          <a:stretch/>
        </p:blipFill>
        <p:spPr>
          <a:xfrm>
            <a:off x="5045040" y="2421000"/>
            <a:ext cx="534960" cy="576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153040" y="3044880"/>
            <a:ext cx="1074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Qube Z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(281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  <a:ea typeface="Arial"/>
              </a:rPr>
              <a:t>€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pril20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BenQ S80&#10;MORE PICTURES"/>
          <p:cNvPicPr/>
          <p:nvPr/>
        </p:nvPicPr>
        <p:blipFill>
          <a:blip r:embed="rId3"/>
          <a:srcRect l="0" t="0" r="8999" b="0"/>
          <a:stretch/>
        </p:blipFill>
        <p:spPr>
          <a:xfrm>
            <a:off x="6012000" y="1484280"/>
            <a:ext cx="682560" cy="990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24360" y="2416320"/>
            <a:ext cx="10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MTS / GS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BenQ A520"/>
          <p:cNvPicPr/>
          <p:nvPr/>
        </p:nvPicPr>
        <p:blipFill>
          <a:blip r:embed="rId4"/>
          <a:srcRect l="0" t="30259" r="55057" b="0"/>
          <a:stretch/>
        </p:blipFill>
        <p:spPr>
          <a:xfrm>
            <a:off x="6588000" y="3429000"/>
            <a:ext cx="409680" cy="841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643800" y="4292640"/>
            <a:ext cx="109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5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BenQ M350"/>
          <p:cNvPicPr/>
          <p:nvPr/>
        </p:nvPicPr>
        <p:blipFill>
          <a:blip r:embed="rId5"/>
          <a:srcRect l="0" t="40037" r="49293" b="0"/>
          <a:stretch/>
        </p:blipFill>
        <p:spPr>
          <a:xfrm>
            <a:off x="5940360" y="4437000"/>
            <a:ext cx="496800" cy="776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012000" y="5229360"/>
            <a:ext cx="10969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3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ne20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1120" y="5942160"/>
            <a:ext cx="52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BenQ A500&#10;MORE PICTURES"/>
          <p:cNvPicPr/>
          <p:nvPr/>
        </p:nvPicPr>
        <p:blipFill>
          <a:blip r:embed="rId6"/>
          <a:srcRect l="49538" t="0" r="8755" b="0"/>
          <a:stretch/>
        </p:blipFill>
        <p:spPr>
          <a:xfrm>
            <a:off x="2700360" y="3860640"/>
            <a:ext cx="349200" cy="1111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627280" y="5013360"/>
            <a:ext cx="1236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154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€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g20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BenQ S680C"/>
          <p:cNvPicPr/>
          <p:nvPr/>
        </p:nvPicPr>
        <p:blipFill>
          <a:blip r:embed="rId7"/>
          <a:srcRect l="13921" t="0" r="14165" b="0"/>
          <a:stretch/>
        </p:blipFill>
        <p:spPr>
          <a:xfrm>
            <a:off x="4211640" y="4149720"/>
            <a:ext cx="514440" cy="946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70320" y="5086440"/>
            <a:ext cx="1236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680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140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€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ct 20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BenQ S700&#10;MORE PICTURES"/>
          <p:cNvPicPr/>
          <p:nvPr/>
        </p:nvPicPr>
        <p:blipFill>
          <a:blip r:embed="rId8"/>
          <a:srcRect l="29853" t="0" r="29146" b="0"/>
          <a:stretch/>
        </p:blipFill>
        <p:spPr>
          <a:xfrm>
            <a:off x="4067280" y="2852640"/>
            <a:ext cx="314280" cy="1017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24360" y="3857760"/>
            <a:ext cx="1236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7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33 €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v20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BenQ S670C&#10;MORE PICTURES"/>
          <p:cNvPicPr/>
          <p:nvPr/>
        </p:nvPicPr>
        <p:blipFill>
          <a:blip r:embed="rId9"/>
          <a:srcRect l="47607" t="0" r="9244" b="0"/>
          <a:stretch/>
        </p:blipFill>
        <p:spPr>
          <a:xfrm>
            <a:off x="1547640" y="3716280"/>
            <a:ext cx="297000" cy="911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84360" y="4622760"/>
            <a:ext cx="504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670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169 €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eb200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BenQ M300&#10;MORE PICTURES"/>
          <p:cNvPicPr/>
          <p:nvPr/>
        </p:nvPicPr>
        <p:blipFill>
          <a:blip r:embed="rId10"/>
          <a:srcRect l="22675" t="0" r="20283" b="0"/>
          <a:stretch/>
        </p:blipFill>
        <p:spPr>
          <a:xfrm>
            <a:off x="2211480" y="5084640"/>
            <a:ext cx="217440" cy="503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124000" y="5516640"/>
            <a:ext cx="10969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3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108 €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ly20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1"/>
          </p:cNvPr>
          <p:cNvPicPr/>
          <p:nvPr/>
        </p:nvPicPr>
        <p:blipFill>
          <a:blip r:embed="rId12"/>
          <a:srcRect l="11555" t="0" r="29293" b="0"/>
          <a:stretch/>
        </p:blipFill>
        <p:spPr>
          <a:xfrm>
            <a:off x="5114880" y="4724280"/>
            <a:ext cx="298440" cy="649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48360" y="5445000"/>
            <a:ext cx="10969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3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58 €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r20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BenQ P30"/>
          <p:cNvPicPr/>
          <p:nvPr/>
        </p:nvPicPr>
        <p:blipFill>
          <a:blip r:embed="rId13"/>
          <a:srcRect l="14029" t="0" r="21234" b="0"/>
          <a:stretch/>
        </p:blipFill>
        <p:spPr>
          <a:xfrm>
            <a:off x="4630680" y="1444680"/>
            <a:ext cx="441360" cy="904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135400" y="1577880"/>
            <a:ext cx="1236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47 €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r20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BenQ P50"/>
          <p:cNvPicPr/>
          <p:nvPr/>
        </p:nvPicPr>
        <p:blipFill>
          <a:blip r:embed="rId14"/>
          <a:srcRect l="14029" t="0" r="15470" b="0"/>
          <a:stretch/>
        </p:blipFill>
        <p:spPr>
          <a:xfrm>
            <a:off x="7524720" y="1341360"/>
            <a:ext cx="450720" cy="844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51800" y="2205000"/>
            <a:ext cx="109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4360" y="3429000"/>
            <a:ext cx="504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7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5"/>
          <a:stretch/>
        </p:blipFill>
        <p:spPr>
          <a:xfrm>
            <a:off x="8459640" y="1341360"/>
            <a:ext cx="428760" cy="952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532720" y="24210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3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6"/>
          <a:stretch/>
        </p:blipFill>
        <p:spPr>
          <a:xfrm>
            <a:off x="1187280" y="4941720"/>
            <a:ext cx="285840" cy="598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52360" y="5646600"/>
            <a:ext cx="755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660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101 €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n20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手機介紹"/>
          <p:cNvPicPr/>
          <p:nvPr/>
        </p:nvPicPr>
        <p:blipFill>
          <a:blip r:embed="rId17"/>
          <a:stretch/>
        </p:blipFill>
        <p:spPr>
          <a:xfrm>
            <a:off x="3205080" y="5229360"/>
            <a:ext cx="414360" cy="88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03640" y="6229440"/>
            <a:ext cx="720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668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94 €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g20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手機介紹"/>
          <p:cNvPicPr/>
          <p:nvPr/>
        </p:nvPicPr>
        <p:blipFill>
          <a:blip r:embed="rId18"/>
          <a:stretch/>
        </p:blipFill>
        <p:spPr>
          <a:xfrm>
            <a:off x="3780000" y="5373720"/>
            <a:ext cx="390240" cy="961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851280" y="6381720"/>
            <a:ext cx="5763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91.5 €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g20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9"/>
          <a:stretch/>
        </p:blipFill>
        <p:spPr>
          <a:xfrm>
            <a:off x="7236000" y="3679920"/>
            <a:ext cx="371160" cy="676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308720" y="4398840"/>
            <a:ext cx="79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3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0"/>
          <a:stretch/>
        </p:blipFill>
        <p:spPr>
          <a:xfrm>
            <a:off x="7956720" y="2421000"/>
            <a:ext cx="412560" cy="807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956720" y="3246480"/>
            <a:ext cx="122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6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1"/>
          <a:stretch/>
        </p:blipFill>
        <p:spPr>
          <a:xfrm>
            <a:off x="8317080" y="3645000"/>
            <a:ext cx="314280" cy="592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44000" y="4221000"/>
            <a:ext cx="43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72360" y="6165720"/>
            <a:ext cx="259236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he price is current street p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716000" y="1268280"/>
            <a:ext cx="71640" cy="504036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56000" y="126828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51640" y="1268280"/>
            <a:ext cx="100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645080" y="1268280"/>
            <a:ext cx="71280" cy="504036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76360" y="1449360"/>
            <a:ext cx="2698560" cy="44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264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84720" y="1449360"/>
            <a:ext cx="2698560" cy="44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264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1449360"/>
            <a:ext cx="2700360" cy="44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264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1052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GfK, Asia 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ail prices in US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92560" y="1523880"/>
            <a:ext cx="866520" cy="351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16480" y="1523880"/>
            <a:ext cx="636840" cy="351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7547040" cy="6526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r" pos="7045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enQ has succeeded in shifting its portfolio away from the very low e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43880" y="2135160"/>
            <a:ext cx="11462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YD 04/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64360" y="2135160"/>
            <a:ext cx="83808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Y 03/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6000" y="2135160"/>
            <a:ext cx="11286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YD 04/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27280" y="2135160"/>
            <a:ext cx="8384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Y 03/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65400" y="2135160"/>
            <a:ext cx="102852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YD 04/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6280" y="2135160"/>
            <a:ext cx="83808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Y 03/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989000"/>
            <a:ext cx="5029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2203560"/>
            <a:ext cx="5029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1989000"/>
            <a:ext cx="0" cy="21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08840" y="1989000"/>
            <a:ext cx="0" cy="21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19280" y="1523880"/>
            <a:ext cx="974520" cy="35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em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66760" y="2354400"/>
            <a:ext cx="8572320" cy="3438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360" y="5950080"/>
            <a:ext cx="8064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clusion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merous mid and high tier products in 2005 has showed a clear transition from low to mid/high tier on th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Products Segmentation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 Source: www.BenQ.com.tw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4920" y="1844640"/>
            <a:ext cx="1584360" cy="934920"/>
          </a:xfrm>
          <a:prstGeom prst="ellipse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e1d3e"/>
                </a:solidFill>
                <a:latin typeface="Arial"/>
              </a:rPr>
              <a:t>Smart Pho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2492280"/>
            <a:ext cx="2879640" cy="2376720"/>
          </a:xfrm>
          <a:prstGeom prst="ellipse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e1d3e"/>
                </a:solidFill>
                <a:latin typeface="Arial"/>
              </a:rPr>
              <a:t>GSM pho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4869000"/>
            <a:ext cx="2232000" cy="865080"/>
          </a:xfrm>
          <a:prstGeom prst="ellipse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e1d3e"/>
                </a:solidFill>
                <a:latin typeface="Arial"/>
              </a:rPr>
              <a:t>Technical diction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手機介紹"/>
          <p:cNvPicPr/>
          <p:nvPr/>
        </p:nvPicPr>
        <p:blipFill>
          <a:blip r:embed="rId1"/>
          <a:stretch/>
        </p:blipFill>
        <p:spPr>
          <a:xfrm>
            <a:off x="1403280" y="2405160"/>
            <a:ext cx="381240" cy="952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03280" y="3429000"/>
            <a:ext cx="64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手機介紹"/>
          <p:cNvPicPr/>
          <p:nvPr/>
        </p:nvPicPr>
        <p:blipFill>
          <a:blip r:embed="rId2"/>
          <a:stretch/>
        </p:blipFill>
        <p:spPr>
          <a:xfrm>
            <a:off x="6588000" y="2336760"/>
            <a:ext cx="381240" cy="792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手機介紹"/>
          <p:cNvPicPr/>
          <p:nvPr/>
        </p:nvPicPr>
        <p:blipFill>
          <a:blip r:embed="rId3"/>
          <a:stretch/>
        </p:blipFill>
        <p:spPr>
          <a:xfrm>
            <a:off x="5219640" y="2338560"/>
            <a:ext cx="428760" cy="961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手機介紹"/>
          <p:cNvPicPr/>
          <p:nvPr/>
        </p:nvPicPr>
        <p:blipFill>
          <a:blip r:embed="rId4"/>
          <a:stretch/>
        </p:blipFill>
        <p:spPr>
          <a:xfrm>
            <a:off x="5867280" y="2336760"/>
            <a:ext cx="398520" cy="719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076720" y="3273480"/>
            <a:ext cx="790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3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3044880"/>
            <a:ext cx="57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88000" y="3129120"/>
            <a:ext cx="57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手機介紹"/>
          <p:cNvPicPr/>
          <p:nvPr/>
        </p:nvPicPr>
        <p:blipFill>
          <a:blip r:embed="rId5"/>
          <a:stretch/>
        </p:blipFill>
        <p:spPr>
          <a:xfrm>
            <a:off x="7596360" y="21286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812000" y="2847960"/>
            <a:ext cx="50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Qube Z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1692360" y="5516640"/>
            <a:ext cx="287280" cy="782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692360" y="6308640"/>
            <a:ext cx="71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67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手機介紹"/>
          <p:cNvPicPr/>
          <p:nvPr/>
        </p:nvPicPr>
        <p:blipFill>
          <a:blip r:embed="rId7"/>
          <a:stretch/>
        </p:blipFill>
        <p:spPr>
          <a:xfrm>
            <a:off x="5292720" y="3789360"/>
            <a:ext cx="344520" cy="790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手機介紹"/>
          <p:cNvPicPr/>
          <p:nvPr/>
        </p:nvPicPr>
        <p:blipFill>
          <a:blip r:embed="rId8"/>
          <a:stretch/>
        </p:blipFill>
        <p:spPr>
          <a:xfrm>
            <a:off x="6732720" y="3860640"/>
            <a:ext cx="390240" cy="962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手機介紹"/>
          <p:cNvPicPr/>
          <p:nvPr/>
        </p:nvPicPr>
        <p:blipFill>
          <a:blip r:embed="rId9"/>
          <a:stretch/>
        </p:blipFill>
        <p:spPr>
          <a:xfrm>
            <a:off x="4572000" y="4006800"/>
            <a:ext cx="330120" cy="790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手機介紹"/>
          <p:cNvPicPr/>
          <p:nvPr/>
        </p:nvPicPr>
        <p:blipFill>
          <a:blip r:embed="rId10"/>
          <a:stretch/>
        </p:blipFill>
        <p:spPr>
          <a:xfrm>
            <a:off x="8172360" y="3032280"/>
            <a:ext cx="419040" cy="952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手機介紹"/>
          <p:cNvPicPr/>
          <p:nvPr/>
        </p:nvPicPr>
        <p:blipFill>
          <a:blip r:embed="rId11"/>
          <a:stretch/>
        </p:blipFill>
        <p:spPr>
          <a:xfrm>
            <a:off x="4572000" y="2565360"/>
            <a:ext cx="428760" cy="952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手機介紹"/>
          <p:cNvPicPr/>
          <p:nvPr/>
        </p:nvPicPr>
        <p:blipFill>
          <a:blip r:embed="rId12"/>
          <a:stretch/>
        </p:blipFill>
        <p:spPr>
          <a:xfrm>
            <a:off x="7451640" y="3860640"/>
            <a:ext cx="609840" cy="971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手機介紹"/>
          <p:cNvPicPr/>
          <p:nvPr/>
        </p:nvPicPr>
        <p:blipFill>
          <a:blip r:embed="rId13"/>
          <a:stretch/>
        </p:blipFill>
        <p:spPr>
          <a:xfrm>
            <a:off x="7308720" y="2565360"/>
            <a:ext cx="400320" cy="952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手機介紹"/>
          <p:cNvPicPr/>
          <p:nvPr/>
        </p:nvPicPr>
        <p:blipFill>
          <a:blip r:embed="rId14"/>
          <a:stretch/>
        </p:blipFill>
        <p:spPr>
          <a:xfrm>
            <a:off x="5940360" y="3933720"/>
            <a:ext cx="414360" cy="88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500720" y="3500280"/>
            <a:ext cx="79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67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00720" y="4797360"/>
            <a:ext cx="57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21440" y="4508640"/>
            <a:ext cx="57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797360"/>
            <a:ext cx="72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66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32720" y="4797360"/>
            <a:ext cx="50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51640" y="4797360"/>
            <a:ext cx="64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68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8720" y="3500280"/>
            <a:ext cx="64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7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172360" y="3967200"/>
            <a:ext cx="64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3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5"/>
          <a:stretch/>
        </p:blipFill>
        <p:spPr>
          <a:xfrm>
            <a:off x="1260360" y="1197000"/>
            <a:ext cx="428760" cy="952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6"/>
          <a:stretch/>
        </p:blipFill>
        <p:spPr>
          <a:xfrm>
            <a:off x="1908000" y="1197000"/>
            <a:ext cx="432000" cy="8636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60360" y="2205000"/>
            <a:ext cx="43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79640" y="2131920"/>
            <a:ext cx="57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7"/>
          <a:stretch/>
        </p:blipFill>
        <p:spPr>
          <a:xfrm>
            <a:off x="4859280" y="1197000"/>
            <a:ext cx="371520" cy="676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932360" y="1916280"/>
            <a:ext cx="79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8"/>
          <a:stretch/>
        </p:blipFill>
        <p:spPr>
          <a:xfrm>
            <a:off x="5364000" y="1052640"/>
            <a:ext cx="412920" cy="807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508720" y="191628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9"/>
          <a:stretch/>
        </p:blipFill>
        <p:spPr>
          <a:xfrm>
            <a:off x="6012000" y="1197000"/>
            <a:ext cx="314280" cy="592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012000" y="1916280"/>
            <a:ext cx="43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0"/>
          <a:stretch/>
        </p:blipFill>
        <p:spPr>
          <a:xfrm>
            <a:off x="6516720" y="1125360"/>
            <a:ext cx="420480" cy="64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588000" y="1916280"/>
            <a:ext cx="72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1"/>
          <a:stretch/>
        </p:blipFill>
        <p:spPr>
          <a:xfrm>
            <a:off x="7156440" y="1125360"/>
            <a:ext cx="295200" cy="690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093080" y="1916280"/>
            <a:ext cx="72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7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手機介紹"/>
          <p:cNvPicPr/>
          <p:nvPr/>
        </p:nvPicPr>
        <p:blipFill>
          <a:blip r:embed="rId22"/>
          <a:stretch/>
        </p:blipFill>
        <p:spPr>
          <a:xfrm>
            <a:off x="5867280" y="5094360"/>
            <a:ext cx="457200" cy="9619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940360" y="6054840"/>
            <a:ext cx="72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620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3"/>
          <a:stretch/>
        </p:blipFill>
        <p:spPr>
          <a:xfrm>
            <a:off x="8317080" y="4149720"/>
            <a:ext cx="475920" cy="10000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317080" y="5157720"/>
            <a:ext cx="75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66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手機介紹"/>
          <p:cNvPicPr/>
          <p:nvPr/>
        </p:nvPicPr>
        <p:blipFill>
          <a:blip r:embed="rId24"/>
          <a:stretch/>
        </p:blipFill>
        <p:spPr>
          <a:xfrm>
            <a:off x="6732720" y="4987800"/>
            <a:ext cx="44748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732720" y="5983200"/>
            <a:ext cx="57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66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手機介紹"/>
          <p:cNvPicPr/>
          <p:nvPr/>
        </p:nvPicPr>
        <p:blipFill>
          <a:blip r:embed="rId25"/>
          <a:stretch/>
        </p:blipFill>
        <p:spPr>
          <a:xfrm>
            <a:off x="5076720" y="4952880"/>
            <a:ext cx="409680" cy="971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076720" y="5910120"/>
            <a:ext cx="57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82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52720" y="1341360"/>
            <a:ext cx="71928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手機介紹"/>
          <p:cNvPicPr/>
          <p:nvPr/>
        </p:nvPicPr>
        <p:blipFill>
          <a:blip r:embed="rId26"/>
          <a:stretch/>
        </p:blipFill>
        <p:spPr>
          <a:xfrm>
            <a:off x="2700360" y="5659560"/>
            <a:ext cx="282600" cy="649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627280" y="6381720"/>
            <a:ext cx="57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83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58920" y="5877000"/>
            <a:ext cx="504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ile 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59280" y="6021360"/>
            <a:ext cx="79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71640" y="3933720"/>
            <a:ext cx="1008360" cy="43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2708280"/>
            <a:ext cx="1008000" cy="43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9280" y="1700280"/>
            <a:ext cx="71928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1052640"/>
            <a:ext cx="3456000" cy="1296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4360" y="2421000"/>
            <a:ext cx="4895640" cy="381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1052640"/>
            <a:ext cx="1800000" cy="1368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5589720"/>
            <a:ext cx="1008000" cy="43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0" y="5373720"/>
            <a:ext cx="2160360" cy="93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ducts to b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ducts launched in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488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2920" y="16200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ailable Products in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4000" y="1486080"/>
            <a:ext cx="8496000" cy="46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0:32:09Z</dcterms:created>
  <dc:creator>cn1ld060</dc:creator>
  <dc:description/>
  <dc:language>en-US</dc:language>
  <cp:lastModifiedBy>cn1nb010</cp:lastModifiedBy>
  <dcterms:modified xsi:type="dcterms:W3CDTF">2005-06-10T03:35:24Z</dcterms:modified>
  <cp:revision>106</cp:revision>
  <dc:subject/>
  <dc:title>Slide 1</dc:title>
</cp:coreProperties>
</file>